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492-DEF9-432B-A6DF-371C37B7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D45-CF71-4B1E-946D-85190BC3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0C0-96C8-42EC-A007-820A8851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BAE-8670-4265-8A40-FBC80A38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E5F-25A0-4FA4-820C-8026512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B75-7E52-4840-AAE8-F34E0413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60C-AC86-4C4F-A5A2-5206067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274-3BD9-4875-BC96-047D8BD5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C37-8FF7-4CDF-96CE-3FCF6A85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24E-F6E4-41FD-9894-2324373A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154-7C38-40F2-93D7-08B2CF0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7F4-ADCE-4BFB-AF63-36F83F1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0D40-D6E9-4EC4-8088-59F110DB2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923000" cy="9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029200" cy="88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624852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763120" cy="227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2057400"/>
            <a:ext cx="1447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9810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19810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3059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076960" cy="227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828800"/>
            <a:ext cx="1752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18288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828800"/>
            <a:ext cx="1676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2264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7631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473800" cy="601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24080" y="1905120"/>
            <a:ext cx="10670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429000"/>
            <a:ext cx="2133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334120"/>
            <a:ext cx="1447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41:34Z</dcterms:created>
  <dc:creator>grahams</dc:creator>
  <dc:description/>
  <dc:language>en-US</dc:language>
  <cp:lastModifiedBy>grahams</cp:lastModifiedBy>
  <dcterms:modified xsi:type="dcterms:W3CDTF">2012-03-20T14:14:40Z</dcterms:modified>
  <cp:revision>3</cp:revision>
  <dc:subject/>
  <dc:title>Slide 1</dc:title>
</cp:coreProperties>
</file>